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407340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DBE0701-3AA9-4153-8C55-7DC5FD89AF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CB8BA06-7A34-48A4-A3A6-27829F29DF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AD6B6CF-5A02-4219-93E6-DAAEE34ED39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4859FCD-D2DA-463F-B76C-FBD7D0D19C9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69BCDA4-1F10-4EB5-A6CD-87A738C3B1F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BCFBBE9-29DC-4A90-BF37-EF61A3D33BE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990FAD4-3E8D-4DDC-A66B-6256CF9181E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3CA4C00-BCEE-404E-A007-41786EC6016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C26DC86-FADA-484B-A8E0-7D34C57CAE0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39C6BFE-7A8D-4DED-A781-3FEA12E61F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F58C9BC-B43B-4B0D-BAE7-92C2E9959D4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14375CB-B9B6-46B8-93D3-D40F4B5A10CA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AA650ACC-E487-42B9-8A18-01E4CDC38931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2400" y="88848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SP2.1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2240" y="1438200"/>
            <a:ext cx="78631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.1 provides data that allows you to manage the cost of improving the quality of the programs you wri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 templates will help you to record and document your design, making it easier to revie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3040" y="1438200"/>
            <a:ext cx="7743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new elements of PSP2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PSP2.1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use PSP2.1 for assignments 8A, 9A, and 10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2.1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1880" y="1438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PSP2.1 are to introdu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itional measures for managing process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templates that provide an orderly framework and format for recording desig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ew Process El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22240" y="1440000"/>
            <a:ext cx="7624800" cy="3773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five new process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.1 design review check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scenario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 templates are discussed in the lecture on software desig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Plan Summary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3040" y="1438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walk through an example of a completed PSP2.1 project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new items on this form are discus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table C6, page 638, of the textb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5800" y="509400"/>
            <a:ext cx="7634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ummary:  Percent Appraisal COQ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0720" y="1442520"/>
            <a:ext cx="7410600" cy="22114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% Appraisal Cost of Qu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percentage of development time spent in design review and code revie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% Appraisal CO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00 * ((Design Review Time + Code Review Time) / Total Development Tim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922320" y="3218040"/>
          <a:ext cx="6253200" cy="307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3218040"/>
                    <a:ext cx="6253200" cy="30700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Oval 5"/>
          <p:cNvSpPr/>
          <p:nvPr/>
        </p:nvSpPr>
        <p:spPr>
          <a:xfrm>
            <a:off x="3228840" y="5264280"/>
            <a:ext cx="3721320" cy="27756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544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ummary:  Percent Failure COQ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0720" y="1432080"/>
            <a:ext cx="7410600" cy="22111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% Failure Cost of Qu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percentage of development time spent in compile and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% Failure CO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00 * ((Compile Time + Test Time) / Total Development Tim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6"/>
          <p:cNvGraphicFramePr/>
          <p:nvPr/>
        </p:nvGraphicFramePr>
        <p:xfrm>
          <a:off x="933480" y="3160800"/>
          <a:ext cx="6253200" cy="307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3160800"/>
                    <a:ext cx="6253200" cy="30700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6" name="Oval 5"/>
          <p:cNvSpPr/>
          <p:nvPr/>
        </p:nvSpPr>
        <p:spPr>
          <a:xfrm>
            <a:off x="3087720" y="5353200"/>
            <a:ext cx="4056120" cy="33624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544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Q A/F Ratio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10720" y="1442520"/>
            <a:ext cx="7790040" cy="22114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Q A/F Rat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ratio of appraisal costs to failure co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Q A/F Rat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% Appraisal COQ / % Failure COQ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922320" y="2743200"/>
          <a:ext cx="6253200" cy="307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2743200"/>
                    <a:ext cx="6253200" cy="30700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Oval 5"/>
          <p:cNvSpPr/>
          <p:nvPr/>
        </p:nvSpPr>
        <p:spPr>
          <a:xfrm>
            <a:off x="3335400" y="5146560"/>
            <a:ext cx="3703680" cy="37152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21T20:41:53Z</cp:lastPrinted>
  <dcterms:modified xsi:type="dcterms:W3CDTF">2018-09-06T00:17:01Z</dcterms:modified>
  <cp:revision>38</cp:revision>
  <dc:subject/>
  <dc:title>No Slide Title</dc:title>
</cp:coreProperties>
</file>